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6F1-FE02-43CE-8968-7D1E8CAE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755C-D668-4645-9FAF-D0B81295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CE5-B60F-4F21-9350-74A0166D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B8D-9FF5-435E-A6F4-127E512A6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2F1A-D382-40EE-BFF4-D1D71C98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1A3-BFD2-451B-9546-C012F5DE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B183-0711-48C3-A300-3C24AB0B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5BA-49C6-4387-B532-E741FEAB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5CD-B32C-4737-8741-269A9208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8CB-6678-499E-90EB-D7D52DB8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AF2E-06DB-43CA-BD0D-815F5439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036-4BCD-4D84-AB80-EF758015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59CE-C792-44EF-9B78-BACB8E114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Map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 Y. Clark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in absent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d Spring Harbor 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clark@cshl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ased 0.08 on August 15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 0.09 to be released immin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optimizations to increase speed when rendering and creating name-based correspond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HTML administration tu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ing RS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G outpu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le (generic) table structure to allow for things lik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ed feature tables (more than just names and positions) with curator-defined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bxre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ility in choosing/zooming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by boy due November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8:07:46Z</dcterms:created>
  <dc:creator>Ken Clark</dc:creator>
  <dc:description/>
  <dc:language>en-US</dc:language>
  <cp:lastModifiedBy>Ken Clark</cp:lastModifiedBy>
  <dcterms:modified xsi:type="dcterms:W3CDTF">2003-09-10T18:58:49Z</dcterms:modified>
  <cp:revision>1</cp:revision>
  <dc:subject/>
  <dc:title>CMap Update</dc:title>
</cp:coreProperties>
</file>